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CDA-E97D-4346-8C73-A8FA6977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603-EF1B-41CB-9FC7-119F6D8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B52-C1C9-4EC6-BB0C-2F999EB9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878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521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523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878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521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737-33F5-4ADF-A6EC-E2948A69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BC4D-F496-4F38-B20A-783B47F7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1AC2-34D4-48F1-B00E-01C6C48A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00D9-7A74-4E1C-BB91-32B434AE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86DF-9333-4637-A823-C9C0C21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AFA2-A8AC-4646-BD36-11429968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10B5-5846-42CC-BA9D-FE6BDD22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2663-E171-4D9F-A592-54D7B0C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C70-C20B-4386-A27E-FF4CF870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BAE3-24B7-44F7-8B2F-4F2BB26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0050-E5E4-4EDD-ACC9-0DF056C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530A-AE5A-425A-B488-1D8BB9E6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9A18-379B-4418-B9A7-682A9548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878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521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23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878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521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86FB-70CB-43F0-9045-96556B64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6D2-2941-4410-B0A1-1A69E87F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A6A-C924-4A4F-B9EF-A81458F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2A5-6F33-4E81-84FC-AA9BB123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123-1C37-4AB7-9617-9A70612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00D-C552-4A25-A3E7-F00E811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38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0B2-8DE6-4CFE-8EB7-9E5BE16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38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373-ABF4-44A4-A92A-20E72FE4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4667-41E3-420B-8ADA-EE0A3E2220C2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0719-4B44-41CF-B207-294CD600B0E4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48Z</dcterms:modified>
  <cp:revision>21</cp:revision>
  <dc:subject/>
  <dc:title>幻灯片 1</dc:title>
</cp:coreProperties>
</file>